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29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</p:sldIdLst>
  <p:sldSz cx="12193588" cy="6858000"/>
  <p:notesSz cx="678973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0" y="0"/>
            <a:ext cx="67896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156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dt" idx="19"/>
          </p:nvPr>
        </p:nvSpPr>
        <p:spPr>
          <a:xfrm>
            <a:off x="3844800" y="0"/>
            <a:ext cx="29419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Img"/>
          </p:nvPr>
        </p:nvSpPr>
        <p:spPr>
          <a:xfrm>
            <a:off x="87480" y="744120"/>
            <a:ext cx="6613200" cy="372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body"/>
          </p:nvPr>
        </p:nvSpPr>
        <p:spPr>
          <a:xfrm>
            <a:off x="677880" y="4712760"/>
            <a:ext cx="543240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ftr" idx="20"/>
          </p:nvPr>
        </p:nvSpPr>
        <p:spPr>
          <a:xfrm>
            <a:off x="-360" y="9425160"/>
            <a:ext cx="294156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 type="sldNum" idx="21"/>
          </p:nvPr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7552B-2EC7-42E6-B68E-D042EBC034D9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87480" y="744480"/>
            <a:ext cx="6613200" cy="372132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77880" y="4712760"/>
            <a:ext cx="54324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Espaço Reservado para Número de Slide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9E7E8-1318-499B-90F0-365C19522955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87480" y="744480"/>
            <a:ext cx="6613200" cy="372132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77880" y="4712760"/>
            <a:ext cx="54324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Espaço Reservado para Número de Slide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D54B0-DE30-4FD8-8B82-B5DA295B8F9C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87480" y="744480"/>
            <a:ext cx="6613200" cy="372132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77880" y="4712760"/>
            <a:ext cx="54324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Espaço Reservado para Número de Slide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DFFAC-C9F8-4ABE-8C3E-2AB6E4E7E316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87480" y="744480"/>
            <a:ext cx="6613200" cy="372132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77880" y="4712760"/>
            <a:ext cx="54324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Espaço Reservado para Número de Slide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39948-5D5B-4C9D-82C8-E7E12B7B7E96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87480" y="744480"/>
            <a:ext cx="6613200" cy="372132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77880" y="4712760"/>
            <a:ext cx="54324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Espaço Reservado para Número de Slide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4B203-C120-4744-A11E-A7EDA1337D9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87480" y="744480"/>
            <a:ext cx="6613200" cy="372132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77880" y="4712760"/>
            <a:ext cx="54324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Espaço Reservado para Número de Slide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EBB86-24C8-4C03-90CE-BDFFFADE8818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87480" y="744480"/>
            <a:ext cx="6613200" cy="372132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77880" y="4712760"/>
            <a:ext cx="54324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Espaço Reservado para Número de Slide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7BD7B-E66D-49F5-9A16-530D3EFBF167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87480" y="744480"/>
            <a:ext cx="6613200" cy="372132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77880" y="4712760"/>
            <a:ext cx="54324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Espaço Reservado para Número de Slide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11879-4E02-480A-B358-52FFDCED2922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87480" y="744480"/>
            <a:ext cx="6613200" cy="372132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77880" y="4712760"/>
            <a:ext cx="54324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Espaço Reservado para Número de Slide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7D9CA-C09A-43F9-AC5D-923719ED6FE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87480" y="744480"/>
            <a:ext cx="6613200" cy="372132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77880" y="4712760"/>
            <a:ext cx="54324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Espaço Reservado para Número de Slide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CD24B-6F8B-46D3-8797-42FF266FEF0A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87480" y="744480"/>
            <a:ext cx="6613200" cy="372132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77880" y="4712760"/>
            <a:ext cx="54324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Espaço Reservado para Número de Slide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01B7C-92B0-4A80-9CFF-AD745CA6107A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87480" y="744480"/>
            <a:ext cx="6613200" cy="372132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77880" y="4712760"/>
            <a:ext cx="54324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Espaço Reservado para Número de Slide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E0792-4E1A-49BD-B43B-C61643F51E0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87480" y="744480"/>
            <a:ext cx="6613200" cy="372132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77880" y="4712760"/>
            <a:ext cx="54324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Espaço Reservado para Número de Slide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2311C-E437-421C-9D6E-9FC957D784AD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87480" y="744480"/>
            <a:ext cx="6613200" cy="372132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77880" y="4712760"/>
            <a:ext cx="54324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Espaço Reservado para Número de Slide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167CE-05C3-4C9C-A9D8-B1B147912672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5CF1-6157-4F35-9CE7-8D208FDBF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36E6-AD18-4D1C-ADF8-45ACB3633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8B89-BF6B-438A-B144-3A09561EA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F0A1-96E8-4202-B0BC-B53A2570D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5AB6C-76E0-4D0B-9118-559F6BD7D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C69C0-DAE2-4B0A-B333-E69B85A9B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04B66-5CD0-4AF6-ACC2-6D50BED27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2F519-9374-4943-920A-A95A2D118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8F19C-5D98-4202-A3D0-E6F3D8C82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AE397-3BB6-43DA-9EE0-B5F82091A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5C722-4FC7-4E93-99E1-07E2BF2B6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047C-7A08-47B4-8C0E-E25680364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147D3-29DA-4D62-82DC-CC368C9B5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588B6-C623-454B-BB04-54F9717B1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846CC-756F-476A-8553-5D7301500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F93EB-C517-4742-B514-C8B6BC419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35C29-B283-4599-BE05-B09A59CA9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8C2C9-A8E8-483A-B83A-F92B29EB0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69138-C001-4C6E-B6D8-87103F358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0D4A1-D42B-4A10-AD2E-458614A59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2F486-4A29-488D-B30A-FD66403AE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7FCC8-13A4-47ED-A18A-10BC4239D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3D64-40E7-487F-838A-0478772C2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BAA96-3733-4C84-B14C-87CA1B064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4454C-60DA-4EEC-AEEA-23A7C449F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EFD2E-9CF3-4CE2-BAB0-165C9BB98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55FF0-3C3A-408C-9618-903836751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6A75A-3BF0-4F0F-A629-B014DF6A9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7413B-DAC9-49F3-BAE3-D9A8FA7C0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01D9F-B5F2-412B-B218-644DE9F7B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5F86B-8466-4D5E-A18F-3DF09BF21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6C924-CB13-441B-86ED-433C1BB36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E8316-5D68-4FA6-9E5B-4435A97E5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F621-D626-4216-9B6F-1D35A1340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A8F8A-0C97-407B-A578-2C46BB5FF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5E03B-4EB1-404C-B574-1E2634040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CF1C1-ADFC-4AC2-973B-C298C2877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DF29E-BE9C-4C78-9DA4-88AEEC8EB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0AA91-BCD8-4FD1-B921-F7875B245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57795-A166-4D0D-B101-8EC7195D6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B20B11-7F48-405C-862F-EDC913CC5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1CD51-D917-4622-B6FD-A83669F27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0B7608-C592-49BA-8BD0-061F89C67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46DD89-0380-4DBF-8A36-F8365646D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8AED-EEE3-4B0E-A0C5-423BE7D84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9E34C0-A36A-48A4-BF18-6BCFCBAEB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B54404-F2E4-4755-B9B3-8973B71DA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11C1DC-78A0-465E-A9CA-73526AEDC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9C073C-E2EE-4888-A8DA-AC8A2720B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5A0EAE-A473-4372-802A-63F63DDC4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8E85E6-61E0-4375-9771-CB0B0ACAD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F66764-E44C-4785-A3B8-4729FEB28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60B8A2-1B7E-4163-A8E7-10DFA0AE2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E232F2-5D75-4502-B0D7-F5376C2D8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33FDF0-A5D8-4A46-B391-8D576ACEE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8F67-E1EB-4E93-8091-CB86313DF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A34C39-2EF2-4D58-8971-A1C140460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FA06F5-0CC8-4D32-9C2D-19A78C000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216E96-4ACD-49C7-BFB5-EDE12F5B6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FE1F9C-E2BC-445F-9AAE-603FCD81E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EC2495-0156-4736-957C-92045AF71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859502-CF9F-47E6-AED3-3938F1820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021B42-7BB5-4C5F-9ED6-7B090BAD8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10A341-E135-4F39-9F2E-2C41506B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2C8217-3989-4217-A7D3-578E43104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D16EC1-1020-47EC-9C14-8F5D11A37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424E-2845-42B6-87F4-1BE1EB698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E918E5-1D5E-4F8B-9D0B-283B8298D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79078A-9BD0-4A73-BB28-938CB6C04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517357-98AE-400A-ADF9-E8052CA0A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645D-50FB-4633-9904-61C11CEF4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A271-7CD2-4C04-93DF-4C15EB2D9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m 2" descr=""/>
          <p:cNvPicPr/>
          <p:nvPr/>
        </p:nvPicPr>
        <p:blipFill>
          <a:blip r:embed="rId2"/>
          <a:stretch/>
        </p:blipFill>
        <p:spPr>
          <a:xfrm>
            <a:off x="12600" y="0"/>
            <a:ext cx="121665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E8ED5-99DB-48A4-9766-45DF3D854B2E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3D1A8-1916-49A3-B901-9085995EB852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Imagem 2" descr=""/>
          <p:cNvPicPr/>
          <p:nvPr/>
        </p:nvPicPr>
        <p:blipFill>
          <a:blip r:embed="rId2"/>
          <a:stretch/>
        </p:blipFill>
        <p:spPr>
          <a:xfrm>
            <a:off x="12600" y="0"/>
            <a:ext cx="1216656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CAA8C-ACD3-473D-93A1-E7C58696E6DA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8A0FB-B2D6-419C-A50A-A4F609D4E7A8}" type="slidenum">
              <a:rPr b="1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Imagem 2" descr=""/>
          <p:cNvPicPr/>
          <p:nvPr/>
        </p:nvPicPr>
        <p:blipFill>
          <a:blip r:embed="rId2"/>
          <a:stretch/>
        </p:blipFill>
        <p:spPr>
          <a:xfrm>
            <a:off x="12600" y="0"/>
            <a:ext cx="1216656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F1198-CE62-4417-BCA3-9E3D717774FE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6395B-2F19-494D-B98E-AA799CF1E98D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Imagem 2" descr=""/>
          <p:cNvPicPr/>
          <p:nvPr/>
        </p:nvPicPr>
        <p:blipFill>
          <a:blip r:embed="rId2"/>
          <a:stretch/>
        </p:blipFill>
        <p:spPr>
          <a:xfrm>
            <a:off x="12600" y="0"/>
            <a:ext cx="1216656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74DD9-E898-42EC-8311-475632492C1D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F69F1-0BEA-4069-A7D0-1AA740F07457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Imagem 2" descr=""/>
          <p:cNvPicPr/>
          <p:nvPr/>
        </p:nvPicPr>
        <p:blipFill>
          <a:blip r:embed="rId2"/>
          <a:stretch/>
        </p:blipFill>
        <p:spPr>
          <a:xfrm>
            <a:off x="12600" y="0"/>
            <a:ext cx="1216656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Retângulo 7"/>
          <p:cNvSpPr/>
          <p:nvPr/>
        </p:nvSpPr>
        <p:spPr>
          <a:xfrm>
            <a:off x="11106000" y="6356520"/>
            <a:ext cx="384480" cy="501480"/>
          </a:xfrm>
          <a:prstGeom prst="rect">
            <a:avLst/>
          </a:prstGeom>
          <a:solidFill>
            <a:srgbClr val="92d05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7FE28-3207-4AB0-81C3-0562A4F9E299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D6E79-B4D7-46C6-8FC9-AF2B8D0DB126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Imagem 2" descr=""/>
          <p:cNvPicPr/>
          <p:nvPr/>
        </p:nvPicPr>
        <p:blipFill>
          <a:blip r:embed="rId2"/>
          <a:stretch/>
        </p:blipFill>
        <p:spPr>
          <a:xfrm>
            <a:off x="12600" y="0"/>
            <a:ext cx="1216656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62029-6172-446F-AC27-DA88FF1FAABA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F37C7-9A18-4C99-B6F4-460F14B83B2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Figura2"/>
          <p:cNvPicPr/>
          <p:nvPr/>
        </p:nvPicPr>
        <p:blipFill>
          <a:blip r:embed="rId1"/>
          <a:stretch/>
        </p:blipFill>
        <p:spPr>
          <a:xfrm>
            <a:off x="2208240" y="1189080"/>
            <a:ext cx="7543800" cy="519264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3"/>
          <p:cNvSpPr/>
          <p:nvPr/>
        </p:nvSpPr>
        <p:spPr>
          <a:xfrm>
            <a:off x="1055520" y="838080"/>
            <a:ext cx="9361800" cy="60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00"/>
                </a:solidFill>
                <a:latin typeface="Arial"/>
              </a:rPr>
              <a:t>RESULTADO DO REGIME GERAL DE PREVIDÊNCIA SOCIAL – RGP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00"/>
                </a:solidFill>
                <a:latin typeface="Arial"/>
              </a:rPr>
              <a:t>20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Brasília, Janeiro de 20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31680" y="6453360"/>
            <a:ext cx="556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30240" y="549360"/>
            <a:ext cx="9666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</a:rPr>
              <a:t>RU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cumulado de Janeiro a Dezembro (2009 a 2018) – Em R$ B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Imagem 1" descr=""/>
          <p:cNvPicPr/>
          <p:nvPr/>
        </p:nvPicPr>
        <p:blipFill>
          <a:blip r:embed="rId1"/>
          <a:stretch/>
        </p:blipFill>
        <p:spPr>
          <a:xfrm>
            <a:off x="30240" y="1052640"/>
            <a:ext cx="115380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2"/>
          <p:cNvSpPr/>
          <p:nvPr/>
        </p:nvSpPr>
        <p:spPr>
          <a:xfrm>
            <a:off x="0" y="6456240"/>
            <a:ext cx="556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ota: PIB 2018 estimado de acordo com a Grade de Parâmetros da SPE/MF de 01/2019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  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0" y="509760"/>
            <a:ext cx="9551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 em relação ao PIB (Em %) – 2009 a 2018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</a:rPr>
              <a:t>RU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Imagem 1" descr=""/>
          <p:cNvPicPr/>
          <p:nvPr/>
        </p:nvPicPr>
        <p:blipFill>
          <a:blip r:embed="rId1"/>
          <a:stretch/>
        </p:blipFill>
        <p:spPr>
          <a:xfrm>
            <a:off x="0" y="1230480"/>
            <a:ext cx="12072960" cy="52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12600" y="549360"/>
            <a:ext cx="9539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</a:rPr>
              <a:t>RU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Dezembro/2017, Novembro e Dezembro de 2018 e Acumulado no ano (2017 e 2018) – Em R$ milhões de dezembro/2018 (INPC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334800" y="638172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Imagem 1" descr=""/>
          <p:cNvPicPr/>
          <p:nvPr/>
        </p:nvPicPr>
        <p:blipFill>
          <a:blip r:embed="rId1"/>
          <a:stretch/>
        </p:blipFill>
        <p:spPr>
          <a:xfrm>
            <a:off x="12600" y="1378080"/>
            <a:ext cx="11844360" cy="50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3"/>
          <p:cNvSpPr/>
          <p:nvPr/>
        </p:nvSpPr>
        <p:spPr>
          <a:xfrm>
            <a:off x="27000" y="476280"/>
            <a:ext cx="9524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</a:rPr>
              <a:t>RU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ezembro/2017, Novembro e Dezembro de 2018 e Acumulado no ano (2017 e 2018) – Em R$ m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316080" y="6381720"/>
            <a:ext cx="363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Imagem 1" descr=""/>
          <p:cNvPicPr/>
          <p:nvPr/>
        </p:nvPicPr>
        <p:blipFill>
          <a:blip r:embed="rId1"/>
          <a:stretch/>
        </p:blipFill>
        <p:spPr>
          <a:xfrm>
            <a:off x="27000" y="1438200"/>
            <a:ext cx="1204596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1523880" y="981000"/>
            <a:ext cx="91440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RESULTADO DO RG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2"/>
          <p:cNvSpPr/>
          <p:nvPr/>
        </p:nvSpPr>
        <p:spPr>
          <a:xfrm>
            <a:off x="0" y="476280"/>
            <a:ext cx="96249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cumulado de Janeiro a Dezembro (2009 a 2018) – Em R$ Bilhões de dezembro/2018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3"/>
          <p:cNvSpPr/>
          <p:nvPr/>
        </p:nvSpPr>
        <p:spPr>
          <a:xfrm>
            <a:off x="19080" y="6453360"/>
            <a:ext cx="3529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Imagem 1" descr=""/>
          <p:cNvPicPr/>
          <p:nvPr/>
        </p:nvPicPr>
        <p:blipFill>
          <a:blip r:embed="rId1"/>
          <a:stretch/>
        </p:blipFill>
        <p:spPr>
          <a:xfrm>
            <a:off x="0" y="1341360"/>
            <a:ext cx="12072960" cy="504036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2"/>
          <p:cNvSpPr/>
          <p:nvPr/>
        </p:nvSpPr>
        <p:spPr>
          <a:xfrm>
            <a:off x="0" y="907920"/>
            <a:ext cx="10488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a66ac"/>
                </a:solidFill>
                <a:latin typeface="Arial"/>
                <a:ea typeface="Times New Roman"/>
              </a:rPr>
              <a:t>Entre 2018 e 2017, a arrecadação líquida cresceu 1,4% (+R$ 5,6 bilhões), a despesa com benefícios previdenciários 2,3% (+R$ 13,2 bilhões) e o Resultado Previdenciário apresentou elevação de 4,0% (+R$ 7,6 bilhões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0" y="6458040"/>
            <a:ext cx="556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0" y="549360"/>
            <a:ext cx="96249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cumulado de Janeiro a Dezembro (2009 a 2018)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– Em R$ B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Imagem 1" descr=""/>
          <p:cNvPicPr/>
          <p:nvPr/>
        </p:nvPicPr>
        <p:blipFill>
          <a:blip r:embed="rId1"/>
          <a:stretch/>
        </p:blipFill>
        <p:spPr>
          <a:xfrm>
            <a:off x="0" y="1052640"/>
            <a:ext cx="1171260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2"/>
          <p:cNvSpPr/>
          <p:nvPr/>
        </p:nvSpPr>
        <p:spPr>
          <a:xfrm>
            <a:off x="7920" y="6432480"/>
            <a:ext cx="556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ota: PIB 2018 estimado de acordo com a Grade de Parâmetros da SPE/MF de 01/2019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   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-7920" y="549360"/>
            <a:ext cx="9578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 em relação ao PIB (Em %) – 2009 a 2018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Imagem 1" descr=""/>
          <p:cNvPicPr/>
          <p:nvPr/>
        </p:nvPicPr>
        <p:blipFill>
          <a:blip r:embed="rId1"/>
          <a:stretch/>
        </p:blipFill>
        <p:spPr>
          <a:xfrm>
            <a:off x="-7920" y="1052640"/>
            <a:ext cx="12080880" cy="53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162000" y="476280"/>
            <a:ext cx="93898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ADO DO RGPS –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m R$ milhões de Dezembro de 2018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0" y="6485040"/>
            <a:ext cx="556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Imagem 1" descr=""/>
          <p:cNvPicPr/>
          <p:nvPr/>
        </p:nvPicPr>
        <p:blipFill>
          <a:blip r:embed="rId1"/>
          <a:stretch/>
        </p:blipFill>
        <p:spPr>
          <a:xfrm>
            <a:off x="0" y="907920"/>
            <a:ext cx="12192120" cy="557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2"/>
          <p:cNvSpPr/>
          <p:nvPr/>
        </p:nvSpPr>
        <p:spPr>
          <a:xfrm>
            <a:off x="15840" y="538200"/>
            <a:ext cx="95360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ADO DO RGPS –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m R$ m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3"/>
          <p:cNvSpPr/>
          <p:nvPr/>
        </p:nvSpPr>
        <p:spPr>
          <a:xfrm>
            <a:off x="0" y="6423120"/>
            <a:ext cx="556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Imagem 1" descr=""/>
          <p:cNvPicPr/>
          <p:nvPr/>
        </p:nvPicPr>
        <p:blipFill>
          <a:blip r:embed="rId1"/>
          <a:stretch/>
        </p:blipFill>
        <p:spPr>
          <a:xfrm>
            <a:off x="15840" y="907920"/>
            <a:ext cx="12176280" cy="554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1560600" y="1052640"/>
            <a:ext cx="9144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ARRECADAÇÃO LÍQUIDA,  DESPESA COM BENEFÍCIOS E RESULTADO PREVIDENCIÁRI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URBA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2"/>
          <p:cNvSpPr/>
          <p:nvPr/>
        </p:nvSpPr>
        <p:spPr>
          <a:xfrm>
            <a:off x="2135160" y="1052640"/>
            <a:ext cx="799308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TENDÊNCIAS ARRECADAÇÃO, DESPESA E RESULT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3"/>
          <p:cNvSpPr/>
          <p:nvPr/>
        </p:nvSpPr>
        <p:spPr>
          <a:xfrm>
            <a:off x="0" y="547560"/>
            <a:ext cx="96249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 e Despesa com Benefícios Previdenciários, nos últimos 25 meses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m R$ bilhões de dezembro/2018 - INPC 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4"/>
          <p:cNvSpPr/>
          <p:nvPr/>
        </p:nvSpPr>
        <p:spPr>
          <a:xfrm>
            <a:off x="4995720" y="112248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7"/>
          <p:cNvSpPr/>
          <p:nvPr/>
        </p:nvSpPr>
        <p:spPr>
          <a:xfrm>
            <a:off x="19080" y="6423120"/>
            <a:ext cx="556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Imagem 1" descr=""/>
          <p:cNvPicPr/>
          <p:nvPr/>
        </p:nvPicPr>
        <p:blipFill>
          <a:blip r:embed="rId1"/>
          <a:stretch/>
        </p:blipFill>
        <p:spPr>
          <a:xfrm>
            <a:off x="0" y="1195560"/>
            <a:ext cx="12144240" cy="53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2"/>
          <p:cNvSpPr/>
          <p:nvPr/>
        </p:nvSpPr>
        <p:spPr>
          <a:xfrm>
            <a:off x="0" y="549360"/>
            <a:ext cx="96249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80"/>
                </a:solidFill>
                <a:latin typeface="Arial"/>
                <a:ea typeface="Times New Roman"/>
              </a:rPr>
              <a:t>Composição da Arrecadação Líqui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Corrente, Recuperação de Créditos e Transferência a Terceiros, nos últimos 25 meses –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m R$ bilhões de dezembro/2018 - INP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6"/>
          <p:cNvSpPr/>
          <p:nvPr/>
        </p:nvSpPr>
        <p:spPr>
          <a:xfrm>
            <a:off x="263520" y="6381720"/>
            <a:ext cx="556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Imagem 1" descr=""/>
          <p:cNvPicPr/>
          <p:nvPr/>
        </p:nvPicPr>
        <p:blipFill>
          <a:blip r:embed="rId1"/>
          <a:stretch/>
        </p:blipFill>
        <p:spPr>
          <a:xfrm>
            <a:off x="0" y="1341360"/>
            <a:ext cx="1207296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0" y="476280"/>
            <a:ext cx="955188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80"/>
                </a:solidFill>
                <a:latin typeface="Arial"/>
                <a:ea typeface="Times New Roman"/>
              </a:rPr>
              <a:t>Composição da Despesa com Benefícios Previdenciár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Benefícios Pagos pelo INSS e Sentenças Judiciais nos últimos 25 meses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– Em R$ bilhões de dezembro/2018 (INPC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5"/>
          <p:cNvSpPr/>
          <p:nvPr/>
        </p:nvSpPr>
        <p:spPr>
          <a:xfrm>
            <a:off x="47520" y="6458040"/>
            <a:ext cx="556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Imagem 1" descr=""/>
          <p:cNvPicPr/>
          <p:nvPr/>
        </p:nvPicPr>
        <p:blipFill>
          <a:blip r:embed="rId1"/>
          <a:stretch/>
        </p:blipFill>
        <p:spPr>
          <a:xfrm>
            <a:off x="47520" y="1268280"/>
            <a:ext cx="12096720" cy="511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2"/>
          <p:cNvSpPr/>
          <p:nvPr/>
        </p:nvSpPr>
        <p:spPr>
          <a:xfrm>
            <a:off x="-4680" y="476280"/>
            <a:ext cx="962496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ado da Previdência Social – nos últimos 25 mes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m R$ bilhões de dezembro/2018 - INP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17"/>
          <p:cNvSpPr/>
          <p:nvPr/>
        </p:nvSpPr>
        <p:spPr>
          <a:xfrm>
            <a:off x="0" y="6413400"/>
            <a:ext cx="556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Imagem 1" descr=""/>
          <p:cNvPicPr/>
          <p:nvPr/>
        </p:nvPicPr>
        <p:blipFill>
          <a:blip r:embed="rId1"/>
          <a:stretch/>
        </p:blipFill>
        <p:spPr>
          <a:xfrm>
            <a:off x="0" y="1087560"/>
            <a:ext cx="12192120" cy="529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0" y="549360"/>
            <a:ext cx="96076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ado do RGPS por Clientela – Média móvel de 12 mes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Janeiro/2009 a dezembro/2018) –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m R$ milhões de dezembro/2018 - INP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3"/>
          <p:cNvSpPr/>
          <p:nvPr/>
        </p:nvSpPr>
        <p:spPr>
          <a:xfrm>
            <a:off x="0" y="6426360"/>
            <a:ext cx="556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Imagem 1" descr=""/>
          <p:cNvPicPr/>
          <p:nvPr/>
        </p:nvPicPr>
        <p:blipFill>
          <a:blip r:embed="rId1"/>
          <a:stretch/>
        </p:blipFill>
        <p:spPr>
          <a:xfrm>
            <a:off x="0" y="1123920"/>
            <a:ext cx="12192120" cy="530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2"/>
          <p:cNvSpPr/>
          <p:nvPr/>
        </p:nvSpPr>
        <p:spPr>
          <a:xfrm>
            <a:off x="4680" y="549360"/>
            <a:ext cx="954720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ado do RGPS – Média móvel de 12 mes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Janeiro/2009 a dezembro/2018)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m R$ bilhões de dezembro/2018 (INPC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3"/>
          <p:cNvSpPr/>
          <p:nvPr/>
        </p:nvSpPr>
        <p:spPr>
          <a:xfrm>
            <a:off x="334800" y="6453360"/>
            <a:ext cx="556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Imagem 1" descr=""/>
          <p:cNvPicPr/>
          <p:nvPr/>
        </p:nvPicPr>
        <p:blipFill>
          <a:blip r:embed="rId1"/>
          <a:stretch/>
        </p:blipFill>
        <p:spPr>
          <a:xfrm>
            <a:off x="4680" y="1125360"/>
            <a:ext cx="12139560" cy="532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2"/>
          <p:cNvSpPr/>
          <p:nvPr/>
        </p:nvSpPr>
        <p:spPr>
          <a:xfrm>
            <a:off x="1523880" y="2060640"/>
            <a:ext cx="9144000" cy="21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BENEFÍCIOS EMITID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(ESTOQU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0" y="476280"/>
            <a:ext cx="96249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Quantidade de Benefícios Emitidos – RGPS –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 Dezembro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</a:rPr>
              <a:t>/2017, Novembro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/2018 e Dezembro/20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47520" y="6381720"/>
            <a:ext cx="986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s: Anuário Estatístico da Previdência Social - AEPS; Boletim Estatístico da Previdência Social – BEPS.  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bs.: Os benefícios assistenciais, embora operacionalizados pelo INSS, estão sob a </a:t>
            </a: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responsabilidade do Ministério do Desenvolvimento Social e Combate à Fo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Imagem 1" descr=""/>
          <p:cNvPicPr/>
          <p:nvPr/>
        </p:nvPicPr>
        <p:blipFill>
          <a:blip r:embed="rId1"/>
          <a:stretch/>
        </p:blipFill>
        <p:spPr>
          <a:xfrm>
            <a:off x="47520" y="907920"/>
            <a:ext cx="11952360" cy="547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2"/>
          <p:cNvSpPr/>
          <p:nvPr/>
        </p:nvSpPr>
        <p:spPr>
          <a:xfrm>
            <a:off x="4680" y="909720"/>
            <a:ext cx="9620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ntre dezembro de 2008 e dezembro de 2018, a quantidade de benefícios previdenciários e acidentários emitidos pela Previdência aumentou 32,9%, passando de 22,8 milhões para 30,3 milhõ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"/>
          <p:cNvSpPr/>
          <p:nvPr/>
        </p:nvSpPr>
        <p:spPr>
          <a:xfrm>
            <a:off x="4680" y="549360"/>
            <a:ext cx="9620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volução da Quantidade de Benefícios Emitidos pela Previdência Social</a:t>
            </a:r>
            <a:r>
              <a:rPr b="1" i="1" lang="pt-BR" sz="1600" spc="-1" strike="noStrike">
                <a:solidFill>
                  <a:srgbClr val="629dd1"/>
                </a:solidFill>
                <a:latin typeface="Arial"/>
                <a:ea typeface="Times New Roman"/>
              </a:rPr>
              <a:t> </a:t>
            </a:r>
            <a:br>
              <a:rPr sz="1600"/>
            </a:b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Em milhões de benefícios - 2008 a 2018 (dezembr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4"/>
          <p:cNvSpPr/>
          <p:nvPr/>
        </p:nvSpPr>
        <p:spPr>
          <a:xfrm>
            <a:off x="4680" y="6381720"/>
            <a:ext cx="10082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s: Anuário Estatístico da Previdência Social - AEPS; Boletim Estatístico da Previdência Social – BEPS. 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bs.: Os benefícios assistenciais, embora operacionalizados pelo INSS, estão sob a </a:t>
            </a: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responsabilidade do Ministério do Desenvolvimento Social e Combate à Fo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Imagem 1" descr=""/>
          <p:cNvPicPr/>
          <p:nvPr/>
        </p:nvPicPr>
        <p:blipFill>
          <a:blip r:embed="rId1"/>
          <a:stretch/>
        </p:blipFill>
        <p:spPr>
          <a:xfrm>
            <a:off x="4680" y="1366920"/>
            <a:ext cx="12139560" cy="50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2"/>
          <p:cNvSpPr/>
          <p:nvPr/>
        </p:nvSpPr>
        <p:spPr>
          <a:xfrm>
            <a:off x="0" y="476280"/>
            <a:ext cx="96966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</a:rPr>
              <a:t>URB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cumulado de Janeiro a Dezembro (2009 a 2018) – Em R$ Bilhões de Dezembro/2018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192240" y="6435720"/>
            <a:ext cx="6634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  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ota: De 2009 a 2015, ocorreu superávit na área urban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Imagem 2" descr=""/>
          <p:cNvPicPr/>
          <p:nvPr/>
        </p:nvPicPr>
        <p:blipFill>
          <a:blip r:embed="rId1"/>
          <a:stretch/>
        </p:blipFill>
        <p:spPr>
          <a:xfrm>
            <a:off x="334800" y="1557360"/>
            <a:ext cx="11161800" cy="487836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2"/>
          <p:cNvSpPr/>
          <p:nvPr/>
        </p:nvSpPr>
        <p:spPr>
          <a:xfrm>
            <a:off x="0" y="981000"/>
            <a:ext cx="10488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a66ac"/>
                </a:solidFill>
                <a:latin typeface="Arial"/>
                <a:ea typeface="Times New Roman"/>
              </a:rPr>
              <a:t>Entre 2018 e 2017, a arrecadação líquida urbana cresceu 1,4% (+R$ 5,2 bilhões), a despesa com benefícios previdenciários 2,8% (+R$ 12,9 bilhões) e o Resultado Previdenciário apresentou elevação de 10,3% (+R$ 7,7 bilhões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2"/>
          <p:cNvSpPr/>
          <p:nvPr/>
        </p:nvSpPr>
        <p:spPr>
          <a:xfrm>
            <a:off x="0" y="581040"/>
            <a:ext cx="96249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alor Médio Real dos Benefícios Emitidos do Regime Geral de Previdência Social (2011 a 2018) </a:t>
            </a:r>
            <a:br>
              <a:rPr sz="1600"/>
            </a:br>
            <a:r>
              <a:rPr b="1" lang="pt-BR" sz="1600" spc="-1" strike="noStrike">
                <a:solidFill>
                  <a:srgbClr val="cc0000"/>
                </a:solidFill>
                <a:latin typeface="Arial"/>
              </a:rPr>
              <a:t>Média de Janeiro a Dezembro de cada ano –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 Em R$ de Dezembro/2018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3"/>
          <p:cNvSpPr/>
          <p:nvPr/>
        </p:nvSpPr>
        <p:spPr>
          <a:xfrm>
            <a:off x="0" y="1044720"/>
            <a:ext cx="97678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O valor médio real dos benefícios do RGPS atingiu R$ 1.404,67, na média de janeiro a dezembro de 2018, o que representou um crescimento de 11,1% em relação ao mesmo período de 201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4"/>
          <p:cNvSpPr/>
          <p:nvPr/>
        </p:nvSpPr>
        <p:spPr>
          <a:xfrm>
            <a:off x="6555600" y="4956120"/>
            <a:ext cx="1093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Variaçã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+11,1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5"/>
          <p:cNvSpPr/>
          <p:nvPr/>
        </p:nvSpPr>
        <p:spPr>
          <a:xfrm flipV="1">
            <a:off x="3139920" y="5229360"/>
            <a:ext cx="3422880" cy="620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6"/>
          <p:cNvSpPr/>
          <p:nvPr/>
        </p:nvSpPr>
        <p:spPr>
          <a:xfrm flipH="1">
            <a:off x="7608960" y="2852640"/>
            <a:ext cx="3456000" cy="22399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7"/>
          <p:cNvSpPr/>
          <p:nvPr/>
        </p:nvSpPr>
        <p:spPr>
          <a:xfrm>
            <a:off x="334800" y="6367320"/>
            <a:ext cx="8610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s: Anuário Estatístico da Previdência Social - AEPS; Boletim Estatístico da Previdência Social – BEP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bs.: Inclui apenas os benefícios previdenciários e acidentár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Imagem 1" descr=""/>
          <p:cNvPicPr/>
          <p:nvPr/>
        </p:nvPicPr>
        <p:blipFill>
          <a:blip r:embed="rId1"/>
          <a:stretch/>
        </p:blipFill>
        <p:spPr>
          <a:xfrm>
            <a:off x="4680" y="1565280"/>
            <a:ext cx="12050640" cy="474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2"/>
          <p:cNvSpPr/>
          <p:nvPr/>
        </p:nvSpPr>
        <p:spPr>
          <a:xfrm>
            <a:off x="0" y="6303960"/>
            <a:ext cx="12072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Fontes: DATAPREV, SUB, SINTESE. 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Obs.: A existência de benefícios com valores inferiores ao salário mínimo deve-se ao desmembramento de pensões e ao pagamento de benefícios como o salário-família, o auxílio suplementar, o auxílio acidente e o abono de permanênci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3"/>
          <p:cNvSpPr/>
          <p:nvPr/>
        </p:nvSpPr>
        <p:spPr>
          <a:xfrm>
            <a:off x="4871880" y="2133720"/>
            <a:ext cx="5688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cc0000"/>
                </a:solidFill>
                <a:latin typeface="Arial"/>
              </a:rPr>
              <a:t>Cerca de 66,5% dos benefícios pagos pelo INSS em dez/2018 possuíam o valor de até um salário mínimo, o que representa um contingente de 23,3 milhões de beneficiário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6"/>
          <p:cNvSpPr/>
          <p:nvPr/>
        </p:nvSpPr>
        <p:spPr>
          <a:xfrm>
            <a:off x="334800" y="746280"/>
            <a:ext cx="10801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istribuição de Benefícios Emitidos, segundo faixas de Valores </a:t>
            </a:r>
            <a:br>
              <a:rPr sz="1600"/>
            </a:b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Em Pisos Previdenciários (Posição em dezembro/201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Imagem 1" descr=""/>
          <p:cNvPicPr/>
          <p:nvPr/>
        </p:nvPicPr>
        <p:blipFill>
          <a:blip r:embed="rId1"/>
          <a:stretch/>
        </p:blipFill>
        <p:spPr>
          <a:xfrm>
            <a:off x="0" y="1251000"/>
            <a:ext cx="12192120" cy="50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/>
          <p:cNvSpPr/>
          <p:nvPr/>
        </p:nvSpPr>
        <p:spPr>
          <a:xfrm>
            <a:off x="1523880" y="2492280"/>
            <a:ext cx="910764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BENEFÍCIOS CONCEDID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(FLUX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2"/>
          <p:cNvSpPr/>
          <p:nvPr/>
        </p:nvSpPr>
        <p:spPr>
          <a:xfrm>
            <a:off x="6480" y="549360"/>
            <a:ext cx="95454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Quantidade de Benefícios Concedidos – RG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Dezembro/2017, Novembro/2018, Dezembro/2018 e Acumulado no ano (2017 e 201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3"/>
          <p:cNvSpPr/>
          <p:nvPr/>
        </p:nvSpPr>
        <p:spPr>
          <a:xfrm>
            <a:off x="0" y="6456240"/>
            <a:ext cx="8229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s: Anuário Estatístico da Previdência Social - AEPS; Boletim Estatístico da Previdência Social – BEP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Imagem 1" descr=""/>
          <p:cNvPicPr/>
          <p:nvPr/>
        </p:nvPicPr>
        <p:blipFill>
          <a:blip r:embed="rId1"/>
          <a:stretch/>
        </p:blipFill>
        <p:spPr>
          <a:xfrm>
            <a:off x="6480" y="1052640"/>
            <a:ext cx="12185640" cy="54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/>
          <p:cNvSpPr/>
          <p:nvPr/>
        </p:nvSpPr>
        <p:spPr>
          <a:xfrm>
            <a:off x="0" y="549360"/>
            <a:ext cx="96249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Quantidade de Benefícios Concedidos pela Previdência Social (2010 a 2018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br>
              <a:rPr sz="2400"/>
            </a:b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Acumulado de Janeiro a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Dezembro de cada ano ( 2010 a 2018) – 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</a:rPr>
              <a:t>Em milhares de benefíc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334800" y="6381720"/>
            <a:ext cx="8229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s: Anuário Estatístico da Previdência Social - AEPS; Boletim Estatístico da Previdência Social – BEP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Imagem 1" descr=""/>
          <p:cNvPicPr/>
          <p:nvPr/>
        </p:nvPicPr>
        <p:blipFill>
          <a:blip r:embed="rId1"/>
          <a:stretch/>
        </p:blipFill>
        <p:spPr>
          <a:xfrm>
            <a:off x="0" y="1260360"/>
            <a:ext cx="1214424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3"/>
          <p:cNvSpPr/>
          <p:nvPr/>
        </p:nvSpPr>
        <p:spPr>
          <a:xfrm>
            <a:off x="34920" y="549360"/>
            <a:ext cx="95900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</a:rPr>
              <a:t>URB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cumulado de Janeiro a Dezembro (2009 a 2018) – Em R$ B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0" y="6458040"/>
            <a:ext cx="6634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  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ota: De 2009 a 2015, ocorreu superávit na área urban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Imagem 1" descr=""/>
          <p:cNvPicPr/>
          <p:nvPr/>
        </p:nvPicPr>
        <p:blipFill>
          <a:blip r:embed="rId1"/>
          <a:stretch/>
        </p:blipFill>
        <p:spPr>
          <a:xfrm>
            <a:off x="47520" y="1054080"/>
            <a:ext cx="1137780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-12600" y="476280"/>
            <a:ext cx="9408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 em relação ao PIB (Em %) – 2009 a 2018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</a:rPr>
              <a:t>URB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2"/>
          <p:cNvSpPr/>
          <p:nvPr/>
        </p:nvSpPr>
        <p:spPr>
          <a:xfrm>
            <a:off x="27000" y="6437160"/>
            <a:ext cx="8713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– 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ota: 1. PIB 2018 estimado de acordo com a Grade de Parâmetros da SPE/MF de 01/2019.   2. De 2009 a 2015, ocorreu superávit na área  urbana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Imagem 2" descr=""/>
          <p:cNvPicPr/>
          <p:nvPr/>
        </p:nvPicPr>
        <p:blipFill>
          <a:blip r:embed="rId1"/>
          <a:stretch/>
        </p:blipFill>
        <p:spPr>
          <a:xfrm>
            <a:off x="27000" y="1052640"/>
            <a:ext cx="12045960" cy="53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2"/>
          <p:cNvSpPr/>
          <p:nvPr/>
        </p:nvSpPr>
        <p:spPr>
          <a:xfrm>
            <a:off x="0" y="476280"/>
            <a:ext cx="9551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</a:rPr>
              <a:t>URB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ezembro/2017, Novembro e Dezembro de 2018 e Acumulado no ano  (2017 e 2018) – Em R$ milhões de dezembro/2018 (INP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0" y="6450120"/>
            <a:ext cx="7885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Imagem 1" descr=""/>
          <p:cNvPicPr/>
          <p:nvPr/>
        </p:nvPicPr>
        <p:blipFill>
          <a:blip r:embed="rId1"/>
          <a:stretch/>
        </p:blipFill>
        <p:spPr>
          <a:xfrm>
            <a:off x="0" y="1268280"/>
            <a:ext cx="11928600" cy="521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3"/>
          <p:cNvSpPr/>
          <p:nvPr/>
        </p:nvSpPr>
        <p:spPr>
          <a:xfrm>
            <a:off x="0" y="476280"/>
            <a:ext cx="101995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</a:rPr>
              <a:t>URB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Arial"/>
              </a:rPr>
              <a:t>Dezembro/2017, Novembro e Dezembro de 2018 e Acumulado no ano (2017 e 2018) </a:t>
            </a:r>
            <a:r>
              <a:rPr b="1" lang="pt-B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– Em R$ milhões nomina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3240" y="6481800"/>
            <a:ext cx="3097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Imagem 1" descr=""/>
          <p:cNvPicPr/>
          <p:nvPr/>
        </p:nvPicPr>
        <p:blipFill>
          <a:blip r:embed="rId1"/>
          <a:stretch/>
        </p:blipFill>
        <p:spPr>
          <a:xfrm>
            <a:off x="3240" y="1197000"/>
            <a:ext cx="11709360" cy="52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1560600" y="1052640"/>
            <a:ext cx="9144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ARRECADAÇÃO LÍQUIDA,  DESPESA COM BENEFÍCIOS E RESULTADO PREVIDENCIÁRI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RU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2"/>
          <p:cNvSpPr/>
          <p:nvPr/>
        </p:nvSpPr>
        <p:spPr>
          <a:xfrm>
            <a:off x="33480" y="6426360"/>
            <a:ext cx="556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3"/>
          <p:cNvSpPr/>
          <p:nvPr/>
        </p:nvSpPr>
        <p:spPr>
          <a:xfrm>
            <a:off x="14400" y="476280"/>
            <a:ext cx="96105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</a:rPr>
              <a:t>RU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cumulado de Janeiro a Dezembro (2009 a 2018) – Em R$ Bilhões de dezembro/2018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2"/>
          <p:cNvSpPr/>
          <p:nvPr/>
        </p:nvSpPr>
        <p:spPr>
          <a:xfrm>
            <a:off x="0" y="981000"/>
            <a:ext cx="11640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a66ac"/>
                </a:solidFill>
                <a:latin typeface="Arial"/>
                <a:ea typeface="Times New Roman"/>
              </a:rPr>
              <a:t>Entre 2018 e 2017, a arrecadação líquida rural cresceu 3,8% (+R$ 366,8 milhões), a despesa com benefícios previdenciários rural e o resultado previdenciário rural tiveram leves aumentos de 0,2% (+R$ 207,3 milhões)  e 0,1% (+R$ 159,5 milhões), respectivam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Imagem 1" descr=""/>
          <p:cNvPicPr/>
          <p:nvPr/>
        </p:nvPicPr>
        <p:blipFill>
          <a:blip r:embed="rId1"/>
          <a:stretch/>
        </p:blipFill>
        <p:spPr>
          <a:xfrm>
            <a:off x="33480" y="1484280"/>
            <a:ext cx="11679120" cy="49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2T16:57:42Z</dcterms:created>
  <dc:creator>46163212134</dc:creator>
  <dc:description/>
  <dc:language>en-US</dc:language>
  <cp:lastModifiedBy>Silvana do Socorro Machado Rodrigues - MPS</cp:lastModifiedBy>
  <cp:lastPrinted>2017-08-23T21:50:06Z</cp:lastPrinted>
  <dcterms:modified xsi:type="dcterms:W3CDTF">2019-02-11T12:26:48Z</dcterms:modified>
  <cp:revision>665</cp:revision>
  <dc:subject/>
  <dc:title>Demografia</dc:title>
</cp:coreProperties>
</file>